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CC6E-7C6A-4B4D-96C1-1F28EE97D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78F8-481A-4FC8-B2CD-EEEB9DCF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4B549B-1D92-47DA-BA5E-9D61453D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7457F7-E9E9-42C4-8B3F-0F0626AC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B937B8-1A48-4918-AE52-F9F5C2A3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E515DD-3586-4951-921A-9D2C4FA2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4091D6-9C38-4053-9EC7-75B54534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664EC-251B-4CD9-8985-26E02778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BD268C-116D-4C7F-AF4D-68A78364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138A7D-13CA-4A54-A9F0-C7B675811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84F1F0-7E5C-4132-9F16-BCF59900F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DC1FE0-A6BE-49DA-9667-6B298BAAB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6068-6BBD-4E78-8B88-FB706C46B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09C116-A697-457B-800B-C0A461BA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21A48B-940C-4A74-AD84-C2B8D67C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F0DEF4-9737-4FE7-895C-42CC88A3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AEF44D-5D52-4166-9425-766B7763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E40298-505C-4CEE-889A-F756DB81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E9BE12-5F62-4E29-9CFE-E3C9B0D2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CB1BD0-B273-41DB-A075-2016908C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B8B335-D1BA-44F9-86B4-BDA8423D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0778CE-CC65-459F-8570-F659F570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C52EF3-03AD-4E3C-A4F8-8446CC1B7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C2A2-9A32-4DC4-909C-890EFF559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9CF6ED-4A68-4C1F-92AF-ECFCA4578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7C8E-763D-4B96-8AC2-B37E04C6A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C0904-F5C7-4A56-870D-53A9BE36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ED26-F15F-4FCA-8D33-9BF19AB4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D724-5460-4497-B991-AD4F8A1A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A267-B1D8-4B3B-A2B9-6DAFA337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4078-37D8-42AA-BE25-0C962A9B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F08B-EF46-4DD2-BDC3-F10800EA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2442-C6D3-43DA-BAD7-3C40FF32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EE992-C1BC-47A8-81E3-13E32FD1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0186-AA54-4071-9DAA-F1201E3A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44E21-0563-4E21-AA4A-EB8486D5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9890D-880F-4DCE-A051-59AA5F1F3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984C-92C7-4B10-ADF2-E61C474CE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233206-7264-4354-ABA4-45807C7D8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85A128-1610-4F8F-871D-DCAB87CF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89D75D-0614-49EA-9BAB-3963514E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51912A-2337-4AA6-9526-7F5FFD06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7C61CB-E9AA-485F-8056-6E4A0B10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03DD-065A-47D8-85F4-C7406972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AB7310-A47A-4063-82EF-E601B639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E4A899-DC81-4957-980B-B79669CD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25B5F3-32D6-4464-8010-1B7068C9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EE139D-F352-4758-8E36-229FF7BD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E5E5BE-98AB-421A-B820-5FAE38A9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5F652C-5DD2-41F9-9D6D-BA384F5C6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1E1132-133D-422A-9A28-4E51B2379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D60AD1-E3B6-4FD4-82EC-A77B2B5DE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F8E5E9-EF8C-4CBF-A1B5-82962657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F7DE5C-0C33-4EC3-8F04-4A02E762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880F-2CC5-4C50-8785-19C9F636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39E0A1-2B83-4518-9F92-CC1E5D6F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1AC3E5-1BC1-4FA9-BB06-499FA5E6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29E4AB-3668-4117-8189-7A5AA3BC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34349E-4A5C-4E52-B3EA-A57569D7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EE1111-36BC-404B-850C-FEFAFEFE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28368D-7176-43F9-8807-4EC9DD5F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B777F7-CC48-46F9-9B05-7082A980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23080E-A151-4D45-A945-86F8B25C2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630675-2629-49B5-B884-20BCA30D1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1B4727-4CAA-4370-87FF-2E0926971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5529-50A9-43DC-887F-2A775F8F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67D7E0-B1A7-4595-BDB8-6530B3A5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90F98F-598D-4C0D-8D18-11F7B0E4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A8AF29-F147-4F70-BABB-442DC7EA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B9AA0D-F482-4959-8200-035B5A4C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A7485D-C57C-4317-AD38-639A5976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29E274-2C89-4B45-8D6F-7C65BB0E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22F946-DD58-4DF4-A3E9-5B8D5D0D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1A75E9-1A3C-45AA-9B2C-467683BD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E79D7A-25DF-4652-980F-0BDA24E9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64F9CA-5C7C-4280-9609-0E712C25B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04F3-413B-4AA6-BEAA-0E6134C3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3DFE6E-3A73-4498-B2E7-E626CDDD0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C4731-89F1-42E4-9A4A-2EA8A3DA3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810DE-CF50-41AE-8930-37D9AC5D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4D01A-60FE-4499-891F-6CD5DE59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313FB-29A6-4206-B352-DAFDEA60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C0632-1993-47BA-8305-79B1FD3E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5AA04-E50B-47A1-A2D1-9493341D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E3973-CA92-4D39-9BF9-BA61DDE3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4C700-E242-46C5-A01C-4FC8668D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345E5-F5ED-4D1C-94EC-0556E493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0CE7-0E86-4116-AD0D-8CE6FA61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48B37-E5D6-404C-8E70-20988AEC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77038-07B4-47A9-AB7D-5224977F8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854EC-D166-4174-9084-1595D5D90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3AE3F0-0A4D-41A9-A88A-F804F4C06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1721D8-7F5B-4EA0-BB1C-45DDE44F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CEB2D4-E65D-4C39-93B9-9B9B20AF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6B1125-8BFC-4E40-8FF8-2EEA242F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E4B1C4-0866-4DAA-A217-8E83D92E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0F4026-F915-4C02-B470-1D5835FE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B7ED22-C675-4E3A-ADEE-F51A28A9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AC8A-952F-4E00-B824-8130795E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A5F85E-85E1-474F-A297-86AE1636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F5049C-D44E-4FB2-A64A-1EDF2396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FE45F4-B81C-44D0-AC56-EA892BB8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612910-7E0E-422C-A9A7-9340FD592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CC187E-24E6-45F4-8DFE-B86F04E66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3BF79-10B9-4474-8992-C04587FF1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D558A-72FF-470B-B1C1-DEC5A16E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A0759-8800-4D8A-9183-50D8474D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84E07-BB36-4198-AFBB-69BA22F5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A7F18-478C-4DD8-ADBB-28A6D90F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A8D1-EBBA-4CB7-B87A-F316412F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A8F29-FF2A-4461-86E4-C382B861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E7F9D-6A0E-4E9D-B135-F40FD02E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6F53F-2CC1-423C-AF5D-52804234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638A9-7C60-4FD9-A184-1CA36F1B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CAB2D-59C5-434B-BB0B-A768DA2E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53D32-4BE7-4B67-B47D-41701920B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645B8-F649-4ADB-868D-A9605BDF4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E1369-91E0-4BE1-968E-34174C8A5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9E7861-759D-4018-8895-E6702EB6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DD25D-1AFD-4C6E-BACD-3D09253B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4e7e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4e7e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9AEE-03C8-465A-B6CD-67F88A180191}" type="slidenum">
              <a:rPr b="1" lang="pl-P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C910-91CA-46D2-BB85-24BA7A5A99AE}" type="slidenum">
              <a:rPr b="1" lang="pl-P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rostokąt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rostokąt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rostokąt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4e7ed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4B2A-172C-408E-A223-075664300CBD}" type="slidenum">
              <a:rPr b="1" lang="pl-PL" sz="1400" spc="-1" strike="noStrike">
                <a:solidFill>
                  <a:srgbClr val="f4e7ed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rostokąt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rostokąt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rostokąt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4e7e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4e7e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2BF0-7116-44D1-8AE3-4C01DF03326B}" type="slidenum">
              <a:rPr b="1" lang="pl-PL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4e7e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4e7e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167B-EE68-46F8-BF86-B7285A622E4B}" type="slidenum">
              <a:rPr b="1" lang="pl-P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4e7e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4e7e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614A-7FD9-4166-89B5-55A88DA4DD60}" type="slidenum">
              <a:rPr b="1" lang="pl-P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4e7e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4e7e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4e7ed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337C-7F14-41BB-911D-320623F9B80F}" type="slidenum">
              <a:rPr b="1" lang="pl-PL" sz="1400" spc="-1" strike="noStrike">
                <a:solidFill>
                  <a:srgbClr val="f4e7ed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rostokąt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rostokąt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rostokąt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rostokąt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4e7e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4e7e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6558-1203-4222-A888-D4F7E27DE7E6}" type="slidenum">
              <a:rPr b="1" lang="pl-PL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rostokąt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rostokąt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rostokąt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4e7e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4e7e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9DED-FE99-46E8-A8AB-9D5826D280A8}" type="slidenum">
              <a:rPr b="1" lang="pl-P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5621-0FF3-4F3C-8C8A-5B3CE385E093}" type="slidenum">
              <a:rPr b="1" lang="pl-P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6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f4e7ed"/>
                </a:solidFill>
                <a:latin typeface="Tw Cen MT"/>
              </a:rPr>
              <a:t>POZNAJEMY ŚWIAT DRZEW</a:t>
            </a:r>
            <a:endParaRPr b="0" lang="en-US" sz="5400" spc="-1" strike="noStrike">
              <a:solidFill>
                <a:srgbClr val="f4e7ed"/>
              </a:solidFill>
              <a:latin typeface="Tw Cen MT"/>
            </a:endParaRPr>
          </a:p>
        </p:txBody>
      </p:sp>
      <p:pic>
        <p:nvPicPr>
          <p:cNvPr id="454" name="Obraz 3" descr="Tree.jpg"/>
          <p:cNvPicPr/>
          <p:nvPr/>
        </p:nvPicPr>
        <p:blipFill>
          <a:blip r:embed="rId1"/>
          <a:stretch/>
        </p:blipFill>
        <p:spPr>
          <a:xfrm>
            <a:off x="1763640" y="2565360"/>
            <a:ext cx="5075280" cy="3807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WordArt 3"/>
          <p:cNvSpPr txBox="1"/>
          <p:nvPr/>
        </p:nvSpPr>
        <p:spPr>
          <a:xfrm>
            <a:off x="1979640" y="333360"/>
            <a:ext cx="5113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663300">
                      <a:alpha val="80000"/>
                    </a:srgbClr>
                  </a:outerShdw>
                </a:effectLst>
                <a:latin typeface="Impact"/>
              </a:rPr>
              <a:t>Drzewa liściast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6633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5" name="AutoShape 4"/>
          <p:cNvSpPr/>
          <p:nvPr/>
        </p:nvSpPr>
        <p:spPr>
          <a:xfrm>
            <a:off x="108000" y="115920"/>
            <a:ext cx="8964720" cy="6669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w Cen MT"/>
              </a:rPr>
              <a:t>Drzewa liściaste należą do roślin okrytozalążkowych. Funkcję asymilacyjną pełnią u nich liście. Organem służącym do rozmnażania jest kwiat. 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517" name="Picture 24" descr="brzoza_brodawkowata"/>
          <p:cNvPicPr/>
          <p:nvPr/>
        </p:nvPicPr>
        <p:blipFill>
          <a:blip r:embed="rId3"/>
          <a:stretch/>
        </p:blipFill>
        <p:spPr>
          <a:xfrm>
            <a:off x="395280" y="2133720"/>
            <a:ext cx="2641680" cy="198108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663300"/>
            </a:outerShdw>
          </a:effectLst>
        </p:spPr>
      </p:pic>
      <p:pic>
        <p:nvPicPr>
          <p:cNvPr id="518" name="Picture 27" descr="jabłoń_kw1"/>
          <p:cNvPicPr/>
          <p:nvPr/>
        </p:nvPicPr>
        <p:blipFill>
          <a:blip r:embed="rId4"/>
          <a:stretch/>
        </p:blipFill>
        <p:spPr>
          <a:xfrm>
            <a:off x="3251160" y="2133720"/>
            <a:ext cx="2641680" cy="198108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663300"/>
            </a:outerShdw>
          </a:effectLst>
        </p:spPr>
      </p:pic>
      <p:pic>
        <p:nvPicPr>
          <p:cNvPr id="519" name="Picture 30" descr="jarząb_pospolity"/>
          <p:cNvPicPr/>
          <p:nvPr/>
        </p:nvPicPr>
        <p:blipFill>
          <a:blip r:embed="rId5"/>
          <a:stretch/>
        </p:blipFill>
        <p:spPr>
          <a:xfrm>
            <a:off x="1547640" y="4437000"/>
            <a:ext cx="2664000" cy="1998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</p:pic>
      <p:pic>
        <p:nvPicPr>
          <p:cNvPr id="520" name="Picture 31" descr="lipa_drobnolistna"/>
          <p:cNvPicPr/>
          <p:nvPr/>
        </p:nvPicPr>
        <p:blipFill>
          <a:blip r:embed="rId6"/>
          <a:stretch/>
        </p:blipFill>
        <p:spPr>
          <a:xfrm>
            <a:off x="6084720" y="2133720"/>
            <a:ext cx="2664000" cy="1998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</p:pic>
      <p:pic>
        <p:nvPicPr>
          <p:cNvPr id="521" name="Picture 32" descr="Klon_jawor"/>
          <p:cNvPicPr/>
          <p:nvPr/>
        </p:nvPicPr>
        <p:blipFill>
          <a:blip r:embed="rId7"/>
          <a:stretch/>
        </p:blipFill>
        <p:spPr>
          <a:xfrm>
            <a:off x="4500720" y="4437000"/>
            <a:ext cx="2663640" cy="1998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</p:pic>
      <p:sp>
        <p:nvSpPr>
          <p:cNvPr id="522" name="Text Box 35"/>
          <p:cNvSpPr/>
          <p:nvPr/>
        </p:nvSpPr>
        <p:spPr>
          <a:xfrm>
            <a:off x="5221440" y="6453360"/>
            <a:ext cx="122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KLON JAW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Text Box 36"/>
          <p:cNvSpPr/>
          <p:nvPr/>
        </p:nvSpPr>
        <p:spPr>
          <a:xfrm>
            <a:off x="1996560" y="6453360"/>
            <a:ext cx="178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JARZĄB ZWYCZAJN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Text Box 37"/>
          <p:cNvSpPr/>
          <p:nvPr/>
        </p:nvSpPr>
        <p:spPr>
          <a:xfrm>
            <a:off x="6456600" y="4091040"/>
            <a:ext cx="179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LIPA DROBNOLIST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Text Box 38"/>
          <p:cNvSpPr/>
          <p:nvPr/>
        </p:nvSpPr>
        <p:spPr>
          <a:xfrm>
            <a:off x="3679560" y="409104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JABŁOŃ ZWYCZAJ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39"/>
          <p:cNvSpPr/>
          <p:nvPr/>
        </p:nvSpPr>
        <p:spPr>
          <a:xfrm>
            <a:off x="596880" y="4076640"/>
            <a:ext cx="22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BRZOZA BRODAWKOWA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4e7ed"/>
                </a:solidFill>
                <a:latin typeface="Tw Cen MT"/>
              </a:rPr>
              <a:t>DRZEWA LIŚCIASTE…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900" spc="-1" strike="noStrike">
                <a:solidFill>
                  <a:srgbClr val="1c1c1c"/>
                </a:solidFill>
                <a:latin typeface="Tw Cen MT"/>
              </a:rPr>
              <a:t>Drzewa liściaste,</a:t>
            </a: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 takie jak dęby i kasztany mają miękkie, spłaszczone </a:t>
            </a:r>
            <a:r>
              <a:rPr b="1" lang="pl-PL" sz="2900" spc="-1" strike="noStrike">
                <a:solidFill>
                  <a:srgbClr val="1c1c1c"/>
                </a:solidFill>
                <a:latin typeface="Tw Cen MT"/>
              </a:rPr>
              <a:t>liście</a:t>
            </a: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. Ich </a:t>
            </a:r>
            <a:r>
              <a:rPr b="1" lang="pl-PL" sz="2900" spc="-1" strike="noStrike">
                <a:solidFill>
                  <a:srgbClr val="1c1c1c"/>
                </a:solidFill>
                <a:latin typeface="Tw Cen MT"/>
              </a:rPr>
              <a:t>nasiona</a:t>
            </a: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 są ukryte w </a:t>
            </a:r>
            <a:r>
              <a:rPr b="1" lang="pl-PL" sz="2900" spc="-1" strike="noStrike">
                <a:solidFill>
                  <a:srgbClr val="1c1c1c"/>
                </a:solidFill>
                <a:latin typeface="Tw Cen MT"/>
              </a:rPr>
              <a:t>owocach</a:t>
            </a: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, które mogą być twarde jak </a:t>
            </a:r>
            <a:r>
              <a:rPr b="1" lang="pl-PL" sz="2900" spc="-1" strike="noStrike">
                <a:solidFill>
                  <a:srgbClr val="1c1c1c"/>
                </a:solidFill>
                <a:latin typeface="Tw Cen MT"/>
              </a:rPr>
              <a:t>żołędzie </a:t>
            </a: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lub miękkie jak </a:t>
            </a:r>
            <a:r>
              <a:rPr b="1" lang="pl-PL" sz="2900" spc="-1" strike="noStrike">
                <a:solidFill>
                  <a:srgbClr val="1c1c1c"/>
                </a:solidFill>
                <a:latin typeface="Tw Cen MT"/>
              </a:rPr>
              <a:t>jagody.</a:t>
            </a: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 Podczas zimna lub suszy wiele drzew liściastych zrzuca liście.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Aby wytworzyć nasiona drzewa liściaste wykształcają </a:t>
            </a:r>
            <a:r>
              <a:rPr b="1" lang="pl-PL" sz="2900" spc="-1" strike="noStrike">
                <a:solidFill>
                  <a:srgbClr val="1c1c1c"/>
                </a:solidFill>
                <a:latin typeface="Tw Cen MT"/>
              </a:rPr>
              <a:t>kwiaty</a:t>
            </a: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. Gdy </a:t>
            </a:r>
            <a:r>
              <a:rPr b="1" lang="pl-PL" sz="2900" spc="-1" strike="noStrike">
                <a:solidFill>
                  <a:srgbClr val="1c1c1c"/>
                </a:solidFill>
                <a:latin typeface="Tw Cen MT"/>
              </a:rPr>
              <a:t>pyłek</a:t>
            </a: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 z jednego kwiatu przedostanie się do drugiego kwiatu zaczynają się tworzyć </a:t>
            </a:r>
            <a:r>
              <a:rPr b="1" lang="pl-PL" sz="2900" spc="-1" strike="noStrike">
                <a:solidFill>
                  <a:srgbClr val="1c1c1c"/>
                </a:solidFill>
                <a:latin typeface="Tw Cen MT"/>
              </a:rPr>
              <a:t>owoce</a:t>
            </a: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4e7ed"/>
                </a:solidFill>
                <a:latin typeface="Tw Cen MT"/>
              </a:rPr>
              <a:t>Z jakiego drzewa pochodzą te liście?</a:t>
            </a:r>
            <a:endParaRPr b="0" lang="en-US" sz="3600" spc="-1" strike="noStrike">
              <a:solidFill>
                <a:srgbClr val="f4e7ed"/>
              </a:solidFill>
              <a:latin typeface="Tw Cen MT"/>
            </a:endParaRPr>
          </a:p>
        </p:txBody>
      </p:sp>
      <p:graphicFrame>
        <p:nvGraphicFramePr>
          <p:cNvPr id="530" name="Object 5"/>
          <p:cNvGraphicFramePr/>
          <p:nvPr/>
        </p:nvGraphicFramePr>
        <p:xfrm>
          <a:off x="826920" y="2565360"/>
          <a:ext cx="7431120" cy="25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565360"/>
                    <a:ext cx="7431120" cy="25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Prostokąt 5"/>
          <p:cNvSpPr/>
          <p:nvPr/>
        </p:nvSpPr>
        <p:spPr>
          <a:xfrm>
            <a:off x="1042920" y="5445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WIERZBA             BRZOZA                     DĄB                            LIP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74560" y="333360"/>
            <a:ext cx="85694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4e7ed"/>
                </a:solidFill>
                <a:latin typeface="Tw Cen MT"/>
              </a:rPr>
              <a:t>Czyje to liście i owoce ?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graphicFrame>
        <p:nvGraphicFramePr>
          <p:cNvPr id="534" name="Object 4"/>
          <p:cNvGraphicFramePr/>
          <p:nvPr/>
        </p:nvGraphicFramePr>
        <p:xfrm>
          <a:off x="324000" y="2349360"/>
          <a:ext cx="825948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349360"/>
                    <a:ext cx="825948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w Cen MT"/>
              </a:rPr>
              <a:t>Znaczenie drzew dla człowieka i środowiska naturalnego</a:t>
            </a:r>
            <a:endParaRPr b="0" lang="en-US" sz="32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Znaczenie drzew w życiu codziennym człowieka: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Tereny rekreacyjne,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Przemysł meblowy i papierniczy, budownictwo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Źródło tlenu,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Kształtowanie klimatu,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Schronienie dla zwierząt,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Produkcja materii organicznej,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Ochrona gleby przed erozją.      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w Cen MT"/>
              </a:rPr>
              <a:t>DRZEWA MOGĄ BYĆ INSPIRACJĄ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pic>
        <p:nvPicPr>
          <p:cNvPr id="540" name="Picture 6" descr="http://360puredesign.files.wordpress.com/2014/01/wieszak-2-e1362487090569.jpg"/>
          <p:cNvPicPr/>
          <p:nvPr/>
        </p:nvPicPr>
        <p:blipFill>
          <a:blip r:embed="rId1"/>
          <a:stretch/>
        </p:blipFill>
        <p:spPr>
          <a:xfrm>
            <a:off x="609480" y="1844640"/>
            <a:ext cx="3587760" cy="45720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8" descr="https://encrypted-tbn1.gstatic.com/images?q=tbn:ANd9GcRZaI7KOW_1hClg8amv0VeCJoXrlkMJ2C5sQy_cQCPL-L0crxKfIA"/>
          <p:cNvPicPr/>
          <p:nvPr/>
        </p:nvPicPr>
        <p:blipFill>
          <a:blip r:embed="rId2"/>
          <a:stretch/>
        </p:blipFill>
        <p:spPr>
          <a:xfrm>
            <a:off x="5864400" y="2641680"/>
            <a:ext cx="1847520" cy="246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5" name="Object 4"/>
          <p:cNvGraphicFramePr/>
          <p:nvPr/>
        </p:nvGraphicFramePr>
        <p:xfrm>
          <a:off x="3132000" y="1268280"/>
          <a:ext cx="5564160" cy="515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1268280"/>
                    <a:ext cx="5564160" cy="51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7" name="AutoShape 7"/>
          <p:cNvSpPr/>
          <p:nvPr/>
        </p:nvSpPr>
        <p:spPr>
          <a:xfrm>
            <a:off x="108000" y="115920"/>
            <a:ext cx="8964720" cy="6669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WordArt 8"/>
          <p:cNvSpPr txBox="1"/>
          <p:nvPr/>
        </p:nvSpPr>
        <p:spPr>
          <a:xfrm>
            <a:off x="2482920" y="406440"/>
            <a:ext cx="41767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663300">
                      <a:alpha val="80000"/>
                    </a:srgbClr>
                  </a:outerShdw>
                </a:effectLst>
                <a:latin typeface="Impact"/>
              </a:rPr>
              <a:t>Lasy w Polsce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6633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326880" y="1557360"/>
            <a:ext cx="273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w Cen MT"/>
              </a:rPr>
              <a:t>W polskich lasach 87 drzew na sto to drzewa szpilkowe w monokulturach, czyli zbiorowiskach składających się z drzew jednego gatunku, równego wieku i podobnej wysokości. Występowanie takich drzewostanów oraz stan środowiska sprawiają, że należą one do najsilniej zagrożonych w Europie.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w Cen MT"/>
              </a:rPr>
              <a:t>Obok przedstawiono zalesienie i skład gatunkowy lasów w 1994 roku (wg danych IBL).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0000"/>
                </a:solidFill>
                <a:latin typeface="Tw Cen MT"/>
              </a:rPr>
              <a:t>Lasy liściaste</a:t>
            </a:r>
            <a:r>
              <a:rPr b="0" lang="pl-PL" sz="4400" spc="-1" strike="noStrike">
                <a:solidFill>
                  <a:srgbClr val="f4e7ed"/>
                </a:solidFill>
                <a:latin typeface="Tw Cen MT"/>
              </a:rPr>
              <a:t> 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cc99"/>
                </a:solidFill>
                <a:latin typeface="Times New Roman"/>
              </a:rPr>
              <a:t>Las liściasty to ekosystem leśny z udziałem przede wszystkim drzew liściastych. Charakter lasu liściastego zmienia się w zależności od regionu geograficznego i klimatu. Lasy liściaste zrzucające liście na zimę spotyka się w strefie umiarkowanej, z wyraźnie zaznaczoną sezonowością i temperaturach poniżej zera w zimie i powyżej 12°C w lecie. Las liściasty strefy umiarkowanej charakteryzuje się stosunkowo bogatym runem, które rozwija się na wiosnę, gdy drzewa nie mają liści i światło może bez trudu penetrować głębsze warstwy lasu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600" spc="-1" strike="noStrike">
                <a:solidFill>
                  <a:srgbClr val="000000"/>
                </a:solidFill>
                <a:latin typeface="Tw Cen MT"/>
              </a:rPr>
              <a:t>DRZEWA</a:t>
            </a:r>
            <a:endParaRPr b="0" lang="en-US" sz="66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6600"/>
                </a:solidFill>
                <a:latin typeface="Tw Cen MT"/>
              </a:rPr>
              <a:t>Drzewa są największymi i najdłużej żyjącymi roślinami. Niektóre żyją kilkaset lat, a najstarsze drzewo na świecie (sosna oścista znaleziona w Białych Górach w Arizonie) ma 4600 lat. Drzewa odgrywają ważną rolę w przyrodzie. Uczestniczą w utrzymaniu odpowiedniego stężenia gazów w atmosferze, a ich korzenie przytrzymują glebę i pobierają z niej wodę, którą następnie wydalają w postaci pary wodnej przez liście do atmosfery.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w Cen MT"/>
              </a:rPr>
              <a:t>PODZIAŁ DRZEW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pic>
        <p:nvPicPr>
          <p:cNvPr id="465" name="Symbol zastępczy zawartości 5" descr=""/>
          <p:cNvPicPr/>
          <p:nvPr/>
        </p:nvPicPr>
        <p:blipFill>
          <a:blip r:embed="rId1"/>
          <a:stretch/>
        </p:blipFill>
        <p:spPr>
          <a:xfrm>
            <a:off x="615960" y="1573200"/>
            <a:ext cx="815004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306000" y="2066760"/>
            <a:ext cx="410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Drzewa iglaste są bardziej prymitywne niż rośliny liściaste i starsze wiekiem. Należą do roślin nagozalążkowych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Ich charakterystycznym elementem są szpilki pełniące funkcję asymilacyjną oraz szyszki pełniące funkcję kwiatostanów i „nasionostanów”.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W odróżnieniu od roślin okrytonasiennych, rośliny iglaste są wyłącznie wiatropylne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67" name="Picture 6" descr="sosna1"/>
          <p:cNvPicPr/>
          <p:nvPr/>
        </p:nvPicPr>
        <p:blipFill>
          <a:blip r:embed="rId1"/>
          <a:stretch/>
        </p:blipFill>
        <p:spPr>
          <a:xfrm>
            <a:off x="6372360" y="1628640"/>
            <a:ext cx="2160360" cy="162108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663300"/>
            </a:outerShdw>
          </a:effectLst>
        </p:spPr>
      </p:pic>
      <p:sp>
        <p:nvSpPr>
          <p:cNvPr id="468" name="WordArt 4"/>
          <p:cNvSpPr txBox="1"/>
          <p:nvPr/>
        </p:nvSpPr>
        <p:spPr>
          <a:xfrm>
            <a:off x="1979640" y="333360"/>
            <a:ext cx="5113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663300">
                      <a:alpha val="80000"/>
                    </a:srgbClr>
                  </a:outerShdw>
                </a:effectLst>
                <a:latin typeface="Impact"/>
              </a:rPr>
              <a:t>Drzewa iglaste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6633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9" name="AutoShape 5"/>
          <p:cNvSpPr/>
          <p:nvPr/>
        </p:nvSpPr>
        <p:spPr>
          <a:xfrm>
            <a:off x="108000" y="115920"/>
            <a:ext cx="8964720" cy="6669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0" name="Picture 9" descr="modrzew_europejski2"/>
          <p:cNvPicPr/>
          <p:nvPr/>
        </p:nvPicPr>
        <p:blipFill>
          <a:blip r:embed="rId4"/>
          <a:stretch/>
        </p:blipFill>
        <p:spPr>
          <a:xfrm>
            <a:off x="6372360" y="4508640"/>
            <a:ext cx="2193840" cy="164592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663300"/>
            </a:outerShdw>
          </a:effectLst>
        </p:spPr>
      </p:pic>
      <p:pic>
        <p:nvPicPr>
          <p:cNvPr id="471" name="Picture 12" descr="cyprys_wiecznie_zielony"/>
          <p:cNvPicPr/>
          <p:nvPr/>
        </p:nvPicPr>
        <p:blipFill>
          <a:blip r:embed="rId5"/>
          <a:stretch/>
        </p:blipFill>
        <p:spPr>
          <a:xfrm>
            <a:off x="5005440" y="3206880"/>
            <a:ext cx="2193840" cy="1646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</p:pic>
      <p:sp>
        <p:nvSpPr>
          <p:cNvPr id="472" name="Text Box 16"/>
          <p:cNvSpPr/>
          <p:nvPr/>
        </p:nvSpPr>
        <p:spPr>
          <a:xfrm>
            <a:off x="6517440" y="6167520"/>
            <a:ext cx="201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MODRZEW EUROPEJSK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17"/>
          <p:cNvSpPr/>
          <p:nvPr/>
        </p:nvSpPr>
        <p:spPr>
          <a:xfrm>
            <a:off x="7484400" y="3284640"/>
            <a:ext cx="140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SOSNA CZAR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18"/>
          <p:cNvSpPr/>
          <p:nvPr/>
        </p:nvSpPr>
        <p:spPr>
          <a:xfrm>
            <a:off x="7164720" y="3933720"/>
            <a:ext cx="167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SZYSZKA CYPRYS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4e7ed"/>
                </a:solidFill>
                <a:latin typeface="Tw Cen MT"/>
              </a:rPr>
              <a:t>CDN….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179280" y="1781280"/>
            <a:ext cx="6840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73960" indent="-273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900" spc="-1" strike="noStrike">
                <a:solidFill>
                  <a:srgbClr val="1c1c1c"/>
                </a:solidFill>
                <a:latin typeface="Tw Cen MT"/>
              </a:rPr>
              <a:t>Drzewa iglaste,</a:t>
            </a: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 takie jak jodła, mają liście pokryte woskiem, podobne w kształcie do igieł lub łuskowate, a ich nasiona znajdują się w </a:t>
            </a:r>
            <a:r>
              <a:rPr b="1" lang="pl-PL" sz="2900" spc="-1" strike="noStrike">
                <a:solidFill>
                  <a:srgbClr val="1c1c1c"/>
                </a:solidFill>
                <a:latin typeface="Tw Cen MT"/>
              </a:rPr>
              <a:t>szyszkach.</a:t>
            </a: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Większość drzew iglastych jest wiecznie zielona, co oznacza, że nie zrzucają jednocześnie wszystkich igieł.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 </a:t>
            </a:r>
            <a:r>
              <a:rPr b="1" lang="pl-PL" sz="2900" spc="-1" strike="noStrike">
                <a:solidFill>
                  <a:srgbClr val="1c1c1c"/>
                </a:solidFill>
                <a:latin typeface="Tw Cen MT"/>
              </a:rPr>
              <a:t>Na wiosnę</a:t>
            </a: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 drzewa iglaste wytwarzają </a:t>
            </a:r>
            <a:r>
              <a:rPr b="1" lang="pl-PL" sz="2900" spc="-1" strike="noStrike">
                <a:solidFill>
                  <a:srgbClr val="1c1c1c"/>
                </a:solidFill>
                <a:latin typeface="Tw Cen MT"/>
              </a:rPr>
              <a:t>szyszki.</a:t>
            </a: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 W nich są schowane </a:t>
            </a:r>
            <a:r>
              <a:rPr b="1" lang="pl-PL" sz="2900" spc="-1" strike="noStrike">
                <a:solidFill>
                  <a:srgbClr val="1c1c1c"/>
                </a:solidFill>
                <a:latin typeface="Tw Cen MT"/>
              </a:rPr>
              <a:t>nasiona</a:t>
            </a: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. Szyszka wysycha i otwiera się gdy nasiona są dojrzałe.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77" name="Obraz 7" descr=""/>
          <p:cNvPicPr/>
          <p:nvPr/>
        </p:nvPicPr>
        <p:blipFill>
          <a:blip r:embed="rId1"/>
          <a:stretch/>
        </p:blipFill>
        <p:spPr>
          <a:xfrm>
            <a:off x="7020000" y="3500280"/>
            <a:ext cx="212400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323640" y="1546200"/>
            <a:ext cx="410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99ff33"/>
                </a:solidFill>
                <a:latin typeface="Verdana"/>
              </a:rPr>
              <a:t>POPULARNE GATUNKI</a:t>
            </a:r>
            <a:endParaRPr b="0" lang="en-US" sz="1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79" name="Picture 3" descr="sosna1"/>
          <p:cNvPicPr/>
          <p:nvPr/>
        </p:nvPicPr>
        <p:blipFill>
          <a:blip r:embed="rId1"/>
          <a:stretch/>
        </p:blipFill>
        <p:spPr>
          <a:xfrm>
            <a:off x="324000" y="1916280"/>
            <a:ext cx="2160360" cy="162072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663300"/>
            </a:outerShdw>
          </a:effectLst>
        </p:spPr>
      </p:pic>
      <p:sp>
        <p:nvSpPr>
          <p:cNvPr id="480" name="WordArt 4"/>
          <p:cNvSpPr txBox="1"/>
          <p:nvPr/>
        </p:nvSpPr>
        <p:spPr>
          <a:xfrm>
            <a:off x="1979640" y="333360"/>
            <a:ext cx="5113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663300">
                      <a:alpha val="80000"/>
                    </a:srgbClr>
                  </a:outerShdw>
                </a:effectLst>
                <a:latin typeface="Impact"/>
              </a:rPr>
              <a:t>Drzewa iglaste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6633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1" name="AutoShape 5"/>
          <p:cNvSpPr/>
          <p:nvPr/>
        </p:nvSpPr>
        <p:spPr>
          <a:xfrm>
            <a:off x="108000" y="115920"/>
            <a:ext cx="8964720" cy="6669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2" name="Picture 6" descr="modrzew_europejski2"/>
          <p:cNvPicPr/>
          <p:nvPr/>
        </p:nvPicPr>
        <p:blipFill>
          <a:blip r:embed="rId4"/>
          <a:stretch/>
        </p:blipFill>
        <p:spPr>
          <a:xfrm>
            <a:off x="324000" y="4030560"/>
            <a:ext cx="2160360" cy="162108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663300"/>
            </a:outerShdw>
          </a:effectLst>
        </p:spPr>
      </p:pic>
      <p:sp>
        <p:nvSpPr>
          <p:cNvPr id="483" name="Text Box 11"/>
          <p:cNvSpPr/>
          <p:nvPr/>
        </p:nvSpPr>
        <p:spPr>
          <a:xfrm>
            <a:off x="399240" y="5734080"/>
            <a:ext cx="201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MODRZEW EUROPEJSK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Text Box 12"/>
          <p:cNvSpPr/>
          <p:nvPr/>
        </p:nvSpPr>
        <p:spPr>
          <a:xfrm>
            <a:off x="3059280" y="3573360"/>
            <a:ext cx="145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KOSODRZEW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13"/>
          <p:cNvSpPr/>
          <p:nvPr/>
        </p:nvSpPr>
        <p:spPr>
          <a:xfrm>
            <a:off x="7164720" y="3933720"/>
            <a:ext cx="167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SZYSZKA CYPRYS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6" name="Picture 14" descr="cis_pospolity"/>
          <p:cNvPicPr/>
          <p:nvPr/>
        </p:nvPicPr>
        <p:blipFill>
          <a:blip r:embed="rId5"/>
          <a:stretch/>
        </p:blipFill>
        <p:spPr>
          <a:xfrm>
            <a:off x="4932360" y="4040280"/>
            <a:ext cx="2160720" cy="1620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</p:pic>
      <p:pic>
        <p:nvPicPr>
          <p:cNvPr id="487" name="Picture 15" descr="cis_pospolity2"/>
          <p:cNvPicPr/>
          <p:nvPr/>
        </p:nvPicPr>
        <p:blipFill>
          <a:blip r:embed="rId6"/>
          <a:stretch/>
        </p:blipFill>
        <p:spPr>
          <a:xfrm>
            <a:off x="7236000" y="1916280"/>
            <a:ext cx="1672920" cy="2232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</p:pic>
      <p:pic>
        <p:nvPicPr>
          <p:cNvPr id="488" name="Picture 16" descr="kosodrzewina"/>
          <p:cNvPicPr/>
          <p:nvPr/>
        </p:nvPicPr>
        <p:blipFill>
          <a:blip r:embed="rId7"/>
          <a:stretch/>
        </p:blipFill>
        <p:spPr>
          <a:xfrm>
            <a:off x="2629080" y="1916280"/>
            <a:ext cx="2158920" cy="1618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</p:pic>
      <p:pic>
        <p:nvPicPr>
          <p:cNvPr id="489" name="Picture 17" descr="sosna_pospolita"/>
          <p:cNvPicPr/>
          <p:nvPr/>
        </p:nvPicPr>
        <p:blipFill>
          <a:blip r:embed="rId8"/>
          <a:stretch/>
        </p:blipFill>
        <p:spPr>
          <a:xfrm>
            <a:off x="4932360" y="1916280"/>
            <a:ext cx="2160720" cy="1620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</p:pic>
      <p:pic>
        <p:nvPicPr>
          <p:cNvPr id="490" name="Picture 18" descr="świerk_kłujący"/>
          <p:cNvPicPr/>
          <p:nvPr/>
        </p:nvPicPr>
        <p:blipFill>
          <a:blip r:embed="rId9"/>
          <a:stretch/>
        </p:blipFill>
        <p:spPr>
          <a:xfrm>
            <a:off x="2627280" y="4030560"/>
            <a:ext cx="2160720" cy="1621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</p:pic>
      <p:sp>
        <p:nvSpPr>
          <p:cNvPr id="491" name="Text Box 19"/>
          <p:cNvSpPr/>
          <p:nvPr/>
        </p:nvSpPr>
        <p:spPr>
          <a:xfrm>
            <a:off x="696240" y="3573360"/>
            <a:ext cx="140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SOSNA CZAR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20"/>
          <p:cNvSpPr/>
          <p:nvPr/>
        </p:nvSpPr>
        <p:spPr>
          <a:xfrm>
            <a:off x="5149440" y="3573360"/>
            <a:ext cx="172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SOSNA ZWYCZAJ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21"/>
          <p:cNvSpPr/>
          <p:nvPr/>
        </p:nvSpPr>
        <p:spPr>
          <a:xfrm>
            <a:off x="2942280" y="5734080"/>
            <a:ext cx="155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ŚWIERK KŁUJĄC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22"/>
          <p:cNvSpPr/>
          <p:nvPr/>
        </p:nvSpPr>
        <p:spPr>
          <a:xfrm>
            <a:off x="5356080" y="573408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CIS POSPO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23"/>
          <p:cNvSpPr/>
          <p:nvPr/>
        </p:nvSpPr>
        <p:spPr>
          <a:xfrm>
            <a:off x="7262640" y="4221000"/>
            <a:ext cx="1700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PSEUDOJAGOD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CISU POSPOLITE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(OSNÓWKA JES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JADAL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23640" y="1546200"/>
            <a:ext cx="410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99ff33"/>
                </a:solidFill>
                <a:latin typeface="Verdana"/>
              </a:rPr>
              <a:t>EGZOTYCZNE GATUNKI</a:t>
            </a:r>
            <a:endParaRPr b="0" lang="en-US" sz="1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7" name="WordArt 4"/>
          <p:cNvSpPr txBox="1"/>
          <p:nvPr/>
        </p:nvSpPr>
        <p:spPr>
          <a:xfrm>
            <a:off x="1979640" y="333360"/>
            <a:ext cx="5113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663300">
                      <a:alpha val="80000"/>
                    </a:srgbClr>
                  </a:outerShdw>
                </a:effectLst>
                <a:latin typeface="Impact"/>
              </a:rPr>
              <a:t>Drzewa iglast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6633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108000" y="115920"/>
            <a:ext cx="8964720" cy="6669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7"/>
          <p:cNvSpPr/>
          <p:nvPr/>
        </p:nvSpPr>
        <p:spPr>
          <a:xfrm>
            <a:off x="498960" y="5734080"/>
            <a:ext cx="183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SZYDLICA JAPOŃSK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 Box 8"/>
          <p:cNvSpPr/>
          <p:nvPr/>
        </p:nvSpPr>
        <p:spPr>
          <a:xfrm>
            <a:off x="2849400" y="3573360"/>
            <a:ext cx="187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CYPRYSIK NUTKAJSK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9"/>
          <p:cNvSpPr/>
          <p:nvPr/>
        </p:nvSpPr>
        <p:spPr>
          <a:xfrm>
            <a:off x="7164720" y="3933720"/>
            <a:ext cx="167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SZYSZKA CYPRYS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15"/>
          <p:cNvSpPr/>
          <p:nvPr/>
        </p:nvSpPr>
        <p:spPr>
          <a:xfrm>
            <a:off x="512280" y="357336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CYPRYSIK LAWSO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16"/>
          <p:cNvSpPr/>
          <p:nvPr/>
        </p:nvSpPr>
        <p:spPr>
          <a:xfrm>
            <a:off x="5141520" y="357336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JAŁOWIEC SABIŃSK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 Box 17"/>
          <p:cNvSpPr/>
          <p:nvPr/>
        </p:nvSpPr>
        <p:spPr>
          <a:xfrm>
            <a:off x="2961360" y="573408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ŚWIERK SERBSK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 Box 18"/>
          <p:cNvSpPr/>
          <p:nvPr/>
        </p:nvSpPr>
        <p:spPr>
          <a:xfrm>
            <a:off x="5180400" y="5734080"/>
            <a:ext cx="172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JODŁA KOREAŃSK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 Box 19"/>
          <p:cNvSpPr/>
          <p:nvPr/>
        </p:nvSpPr>
        <p:spPr>
          <a:xfrm>
            <a:off x="7266240" y="4222800"/>
            <a:ext cx="171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DAGLEZJA ZIELO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1" descr="cyprysik_lawsona"/>
          <p:cNvPicPr/>
          <p:nvPr/>
        </p:nvPicPr>
        <p:blipFill>
          <a:blip r:embed="rId3"/>
          <a:stretch/>
        </p:blipFill>
        <p:spPr>
          <a:xfrm>
            <a:off x="324000" y="1916280"/>
            <a:ext cx="2160360" cy="1620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</p:pic>
      <p:pic>
        <p:nvPicPr>
          <p:cNvPr id="508" name="Picture 23" descr="cyprysik_nutkajski"/>
          <p:cNvPicPr/>
          <p:nvPr/>
        </p:nvPicPr>
        <p:blipFill>
          <a:blip r:embed="rId4"/>
          <a:stretch/>
        </p:blipFill>
        <p:spPr>
          <a:xfrm>
            <a:off x="2627280" y="1916280"/>
            <a:ext cx="2193840" cy="164592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663300"/>
            </a:outerShdw>
          </a:effectLst>
        </p:spPr>
      </p:pic>
      <p:pic>
        <p:nvPicPr>
          <p:cNvPr id="509" name="Picture 26" descr="daglezja_zielona"/>
          <p:cNvPicPr/>
          <p:nvPr/>
        </p:nvPicPr>
        <p:blipFill>
          <a:blip r:embed="rId5"/>
          <a:stretch/>
        </p:blipFill>
        <p:spPr>
          <a:xfrm>
            <a:off x="7236000" y="1916280"/>
            <a:ext cx="1674720" cy="2233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</p:pic>
      <p:pic>
        <p:nvPicPr>
          <p:cNvPr id="510" name="Picture 27" descr="jałowiec_sabiński"/>
          <p:cNvPicPr/>
          <p:nvPr/>
        </p:nvPicPr>
        <p:blipFill>
          <a:blip r:embed="rId6"/>
          <a:stretch/>
        </p:blipFill>
        <p:spPr>
          <a:xfrm>
            <a:off x="4932360" y="1916280"/>
            <a:ext cx="2193840" cy="1645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</p:pic>
      <p:pic>
        <p:nvPicPr>
          <p:cNvPr id="511" name="Picture 28" descr="jodła_koreańska_szyszka_2"/>
          <p:cNvPicPr/>
          <p:nvPr/>
        </p:nvPicPr>
        <p:blipFill>
          <a:blip r:embed="rId7"/>
          <a:stretch/>
        </p:blipFill>
        <p:spPr>
          <a:xfrm>
            <a:off x="4932360" y="4005360"/>
            <a:ext cx="2193840" cy="1646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</p:pic>
      <p:pic>
        <p:nvPicPr>
          <p:cNvPr id="512" name="Picture 29" descr="świeek_serbski"/>
          <p:cNvPicPr/>
          <p:nvPr/>
        </p:nvPicPr>
        <p:blipFill>
          <a:blip r:embed="rId8"/>
          <a:stretch/>
        </p:blipFill>
        <p:spPr>
          <a:xfrm>
            <a:off x="2627280" y="4005360"/>
            <a:ext cx="2193840" cy="1646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</p:pic>
      <p:pic>
        <p:nvPicPr>
          <p:cNvPr id="513" name="Picture 30" descr="szydlica_japońska"/>
          <p:cNvPicPr/>
          <p:nvPr/>
        </p:nvPicPr>
        <p:blipFill>
          <a:blip r:embed="rId9"/>
          <a:stretch/>
        </p:blipFill>
        <p:spPr>
          <a:xfrm>
            <a:off x="290520" y="4005360"/>
            <a:ext cx="2193840" cy="1646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03:47:50Z</dcterms:created>
  <dc:creator>Asia</dc:creator>
  <dc:description/>
  <dc:language>en-US</dc:language>
  <cp:lastModifiedBy>Komputer_2</cp:lastModifiedBy>
  <dcterms:modified xsi:type="dcterms:W3CDTF">2014-11-17T12:29:29Z</dcterms:modified>
  <cp:revision>42</cp:revision>
  <dc:subject/>
  <dc:title>Tajemnice drzew</dc:title>
</cp:coreProperties>
</file>